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CBF-9CA6-494B-A898-B8936C8E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7CE-07F2-4042-AA65-9D8DD75C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829A-59E6-494D-B639-E524A56E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93D-0338-442F-A2BD-89EF3278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9055-B944-49D6-8B3A-3A44F6B8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FAE-FA68-4B69-8867-041A157F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1BD5-506C-48BA-9A5C-EB38435A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1BA-6866-43F9-B0CC-2935E23E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67F3-727B-4D82-9DA4-9BF40E40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9B27-7C3F-4ACA-B744-8E7A5C30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C0B-AF9E-44C0-A837-CEF84605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2E07-0602-4E20-B884-C006E78A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E21D-5334-4CDF-8C1B-302024CD88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4920" y="228600"/>
            <a:ext cx="8244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don’t we take a little brea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Didn’t we just have _______?   (NMET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          B. that            C. one            D.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________was last night that I saw a new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         B. This            C. 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D.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I hope there are enough glasses for each gues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          B. those          C. the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D.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is had made _______ possible for us to catch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the developed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B. it           C. us           D. our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I was disappointed with the film, I had 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 to be much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B. this            C. one   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0604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9320" y="1438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67400" y="2733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4960" y="3571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57920" y="5334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7240" y="371520"/>
            <a:ext cx="8811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m' s mother kept telling him that he should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er, but_______ didn' 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e              B. which           C. she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Doe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ter if he can't finish the job on ti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is          B. that           C. he    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Meeting my uncle after all these years was 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forgettable moment_______ I will always trea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   B. one            C. it     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Is_________ a boy or girl?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she           B. he            C. one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---Look, who is coming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---__________ must be our English teacher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A. She       B. He         C. It             D. T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81800" y="752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91440" y="1590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57960" y="2886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62840" y="372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62840" y="5019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1000" y="447840"/>
            <a:ext cx="9134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one is knocking at the door, but who can____ be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one         B. he           C. she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______ was late summer and the weather was very ho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  B. It             C. This            D. It's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 _________ a heavy rain last night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There had              B. We had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t was                      D. There i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_________ is 200 kilometres from here to the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k. We have to go there by car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here          B. It            C. This           D. Th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If you can dream ________, you can do 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one, it           B. it, one         C. one, one       D. it,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5872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05280" y="1285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81600" y="2048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05280" y="3343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2024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20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3400" y="152280"/>
            <a:ext cx="8129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May 3,2002,archaeologists found a grave of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 dated back to around 2300 B.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o his head was two pots,a bow and arr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hunting and a small copper kn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an was buried with two gold earrings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oldest gold being ever found in Bri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iggest stones weigh for 20 tons and c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a place not very f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may have had a hand in helping transport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ing up the st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99072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62360" y="600120"/>
            <a:ext cx="11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9051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39760" y="189540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276720"/>
            <a:ext cx="762120" cy="304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05720" y="33433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48720" y="3276720"/>
            <a:ext cx="38088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3962520"/>
            <a:ext cx="4572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5680" y="449568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4572000"/>
            <a:ext cx="76176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1722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29000" y="570564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4840" y="371520"/>
            <a:ext cx="8468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Bronze Age,they made copper and bronz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iron came later,in which was called the Iron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s will serve for important material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y of local geography and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ers and officials came to his home,but n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m could say when the objects were m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four o’clock in the afternoon that he and 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pa reached the museum in Guangh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aeologists will continue their work,dig 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xingdui Ruins from 2003 until 20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129528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44120" y="12096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21337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33960" y="1981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4290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82040" y="335268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464832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4160" y="464832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59436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47440" y="601992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20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770840" y="981000"/>
            <a:ext cx="303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追溯到…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给某人一个…的想法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一件衣服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趋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有联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与，插手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竖起，使（车、马）停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用…的话，以…的观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名望，威望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充当，担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使某人想起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属于…，是…的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挖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58480" y="98100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date back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30640" y="144792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ive sb. an idea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920" y="1828800"/>
            <a:ext cx="30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piece of clot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40800" y="220968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en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5320" y="258120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e link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43920" y="306216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have a han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72360" y="3495600"/>
            <a:ext cx="12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pull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68160" y="387684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in term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00040" y="4334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high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42840" y="4714920"/>
            <a:ext cx="13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erve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68680" y="518148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remind sb. of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52680" y="562932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long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76880" y="6086520"/>
            <a:ext cx="11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di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09480" y="4572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20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-228960" y="1066680"/>
            <a:ext cx="9477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The castle ________to the 1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ates from                 B. dates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ates at                       D. dates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first textbooks _________for teaching English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foreign language came out in the 16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ving written              B. to be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written                D.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Are you sure the trees can ________the coming c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t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urvive    B. pass      C. overcome      D. 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52840" y="98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01120" y="2657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91840" y="4791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3480" y="219240"/>
            <a:ext cx="8565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 can’t remember _________it was five o’clock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rri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ther; when           B. that 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ether ; that             D. that ;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By sunset, we had __________thirty m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vered at              B. covered for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overed                  D. covere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This is one of the problems__________at the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iscussed                         B. discussing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discussed                D. to be discu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Never_______faith in himself, the scientist went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his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osing       B. to lose       C. lost          D. to be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725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011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44120" y="3191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67400" y="4867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680" y="142920"/>
            <a:ext cx="88585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xamination, all the students are stu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on’t fail                  B. Not fai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Not failing                D. Not to 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---__________is it that I should take the medicin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Twice a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ow much                 B. How soon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ow often                  D. How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---I really _______that I will meet you again in Ch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So do I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sh        B. hope           C. suggest         D. pre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---Who do you think did i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I suspect Tom__________i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d a hand in            B. had han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d a hand at            D. had hand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77040" y="66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1020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76880" y="3495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620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2840" y="219240"/>
            <a:ext cx="8855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our great joy, the medicine ________satisfac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as proved     B. is proved    C. proved       D. pro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_________customer satisfaction, the policy can’t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ic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 terms of                 B. In the term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n the terms of           D. In term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________at the bottom of the hill there are man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utiful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Grown                     B.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grown           D. To be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_______is said _______ Mr. Brown left for Italy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; why                  B. It; that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at; that            D. What ;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299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57920" y="98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57560" y="2657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28960" y="4410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20" y="219240"/>
            <a:ext cx="9181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n’t it about the time you_______to discuss i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Yes, it is. Would you like to join u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ve begun    B. begin  C. began      D. had beg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o you think the young man Miss Smith is spe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___________, Mar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retty      B. beautiful      C. handsome      D. lo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The question is ________they can finish the work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ther         B. which         C. that     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Mary stood on board, _______her face burnt in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eave         B. leaving           C. to leave          D.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Is this restaurant _______you said we were to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er tomorr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t which    B. which         C. in that   D.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41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865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91640" y="2733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29360" y="3952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20240" y="4952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53360" y="27288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五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代词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i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640" y="914400"/>
            <a:ext cx="8689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_______ necessary to master a foreign langu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se      B. those         C. that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Johns have a new baby. ________ is lo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e          B. It               C. She          D. 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----He was nearly drowned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When was _________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_______ was in 1998 when he was in middle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,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B. this, This   C. this,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. that,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 hate ______ when people talk with their mouth f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B. 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C. these          D.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We found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y difficult to learn Japane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0200" y="752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040" y="1743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86720" y="2962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9144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05840" y="5095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1:52Z</dcterms:modified>
  <cp:revision>11</cp:revision>
  <dc:subject/>
  <dc:title>PowerPoint Presentation</dc:title>
</cp:coreProperties>
</file>